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FB20-1E62-4026-B94A-D34B5AEC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4480" y="774720"/>
            <a:ext cx="86770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04480" y="3750480"/>
            <a:ext cx="86770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C423-5C28-46F6-9F5E-A9E45D97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4480" y="77472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0840" y="77472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04480" y="375048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0840" y="375048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3C7CA-8A40-4AE8-B84B-8D33E189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4480" y="774720"/>
            <a:ext cx="279360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8120" y="774720"/>
            <a:ext cx="279360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1760" y="774720"/>
            <a:ext cx="279360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04480" y="3750480"/>
            <a:ext cx="279360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8120" y="3750480"/>
            <a:ext cx="279360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1760" y="3750480"/>
            <a:ext cx="279360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556BC-036C-4237-91B8-23ACCF4F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04480" y="774720"/>
            <a:ext cx="8677080" cy="56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4480" y="774720"/>
            <a:ext cx="86770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4480" y="774720"/>
            <a:ext cx="42343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774720"/>
            <a:ext cx="42343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42840"/>
            <a:ext cx="91440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4480" y="77472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0840" y="774720"/>
            <a:ext cx="42343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4480" y="375048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04480" y="774720"/>
            <a:ext cx="8677080" cy="56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BD63F-62D7-4A05-A516-EFDF285B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4480" y="774720"/>
            <a:ext cx="42343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0840" y="77472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0840" y="375048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4480" y="77472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0840" y="77472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04480" y="3750480"/>
            <a:ext cx="86770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4480" y="774720"/>
            <a:ext cx="86770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04480" y="3750480"/>
            <a:ext cx="86770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4480" y="77472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0840" y="77472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04480" y="375048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0840" y="375048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4480" y="774720"/>
            <a:ext cx="279360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38120" y="774720"/>
            <a:ext cx="279360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71760" y="774720"/>
            <a:ext cx="279360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04480" y="3750480"/>
            <a:ext cx="279360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38120" y="3750480"/>
            <a:ext cx="279360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71760" y="3750480"/>
            <a:ext cx="279360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4480" y="774720"/>
            <a:ext cx="86770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1E99-E841-46C6-9488-2A59B332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4480" y="774720"/>
            <a:ext cx="42343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0840" y="774720"/>
            <a:ext cx="42343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A3F33-D636-4564-8BE9-9660DCF7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48677-41A1-45D1-8283-CEE0148F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2840"/>
            <a:ext cx="91440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C6EE-3A1F-487D-93B3-58A5252A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4480" y="77472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840" y="774720"/>
            <a:ext cx="42343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04480" y="375048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E03BD-752E-4642-BB9A-E63690FF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4480" y="774720"/>
            <a:ext cx="42343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840" y="77472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0840" y="375048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EA1C-02D5-4774-ADF9-7601DC94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4480" y="77472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0840" y="774720"/>
            <a:ext cx="42343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04480" y="3750480"/>
            <a:ext cx="86770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756DB-3FC6-4D10-ABE3-06EA5A12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70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1387080" y="6438600"/>
            <a:ext cx="65912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7999200" y="6513120"/>
            <a:ext cx="1144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age</a:t>
            </a:r>
            <a:fld id="{6767862F-5732-4E4C-9E6B-23D4B59BEC0C}" type="slidenum"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1E1B-B95E-42AA-A4E9-C801FF35F61A}" type="datetime"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204480" y="774720"/>
            <a:ext cx="86770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Arc 3"/>
          <p:cNvSpPr/>
          <p:nvPr/>
        </p:nvSpPr>
        <p:spPr>
          <a:xfrm>
            <a:off x="0" y="1447920"/>
            <a:ext cx="5791320" cy="541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5" name="Group 5"/>
          <p:cNvGrpSpPr/>
          <p:nvPr/>
        </p:nvGrpSpPr>
        <p:grpSpPr>
          <a:xfrm>
            <a:off x="1066680" y="1981080"/>
            <a:ext cx="1243080" cy="1219320"/>
            <a:chOff x="1066680" y="1981080"/>
            <a:chExt cx="1243080" cy="1219320"/>
          </a:xfrm>
        </p:grpSpPr>
        <p:sp>
          <p:nvSpPr>
            <p:cNvPr id="46" name="Oval 6"/>
            <p:cNvSpPr/>
            <p:nvPr/>
          </p:nvSpPr>
          <p:spPr>
            <a:xfrm>
              <a:off x="1066680" y="1981080"/>
              <a:ext cx="1243080" cy="1219320"/>
            </a:xfrm>
            <a:prstGeom prst="ellipse">
              <a:avLst/>
            </a:prstGeom>
            <a:solidFill>
              <a:srgbClr val="000099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grpSp>
          <p:nvGrpSpPr>
            <p:cNvPr id="47" name="Group 7"/>
            <p:cNvGrpSpPr/>
            <p:nvPr/>
          </p:nvGrpSpPr>
          <p:grpSpPr>
            <a:xfrm>
              <a:off x="1474920" y="2128680"/>
              <a:ext cx="423000" cy="794160"/>
              <a:chOff x="1474920" y="2128680"/>
              <a:chExt cx="423000" cy="794160"/>
            </a:xfrm>
          </p:grpSpPr>
          <p:sp>
            <p:nvSpPr>
              <p:cNvPr id="48" name="Arc 8"/>
              <p:cNvSpPr/>
              <p:nvPr/>
            </p:nvSpPr>
            <p:spPr>
              <a:xfrm rot="5400000">
                <a:off x="1591920" y="2616840"/>
                <a:ext cx="190440" cy="42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49" name="Rectangle 9"/>
              <p:cNvSpPr/>
              <p:nvPr/>
            </p:nvSpPr>
            <p:spPr>
              <a:xfrm>
                <a:off x="1475280" y="2171520"/>
                <a:ext cx="419040" cy="57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50" name="Arc 10"/>
              <p:cNvSpPr/>
              <p:nvPr/>
            </p:nvSpPr>
            <p:spPr>
              <a:xfrm flipV="1" rot="16200000">
                <a:off x="1662120" y="1941120"/>
                <a:ext cx="45720" cy="420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</p:grpSp>
        <p:sp>
          <p:nvSpPr>
            <p:cNvPr id="51" name="Arc 11"/>
            <p:cNvSpPr/>
            <p:nvPr/>
          </p:nvSpPr>
          <p:spPr>
            <a:xfrm flipH="1">
              <a:off x="1138320" y="2077920"/>
              <a:ext cx="1095120" cy="105084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2" name="Arc 12"/>
            <p:cNvSpPr/>
            <p:nvPr/>
          </p:nvSpPr>
          <p:spPr>
            <a:xfrm flipH="1">
              <a:off x="1670760" y="2074680"/>
              <a:ext cx="563400" cy="52884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3" name="AutoShape 13"/>
            <p:cNvSpPr/>
            <p:nvPr/>
          </p:nvSpPr>
          <p:spPr>
            <a:xfrm>
              <a:off x="1572840" y="2276280"/>
              <a:ext cx="444600" cy="79200"/>
            </a:xfrm>
            <a:prstGeom prst="parallelogram">
              <a:avLst>
                <a:gd name="adj" fmla="val 32616"/>
              </a:avLst>
            </a:prstGeom>
            <a:solidFill>
              <a:srgbClr val="0000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4" name="AutoShape 14"/>
            <p:cNvSpPr/>
            <p:nvPr/>
          </p:nvSpPr>
          <p:spPr>
            <a:xfrm>
              <a:off x="1333080" y="2665080"/>
              <a:ext cx="522000" cy="64800"/>
            </a:xfrm>
            <a:prstGeom prst="parallelogram">
              <a:avLst>
                <a:gd name="adj" fmla="val 46133"/>
              </a:avLst>
            </a:prstGeom>
            <a:solidFill>
              <a:srgbClr val="0000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5" name="AutoShape 15"/>
            <p:cNvSpPr/>
            <p:nvPr/>
          </p:nvSpPr>
          <p:spPr>
            <a:xfrm rot="17281800">
              <a:off x="1362600" y="2464200"/>
              <a:ext cx="422280" cy="87480"/>
            </a:xfrm>
            <a:prstGeom prst="parallelogram">
              <a:avLst>
                <a:gd name="adj" fmla="val 28002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6" name="AutoShape 16"/>
            <p:cNvSpPr/>
            <p:nvPr/>
          </p:nvSpPr>
          <p:spPr>
            <a:xfrm>
              <a:off x="1547280" y="2468160"/>
              <a:ext cx="333360" cy="75960"/>
            </a:xfrm>
            <a:prstGeom prst="parallelogram">
              <a:avLst>
                <a:gd name="adj" fmla="val 25661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57" name="Text Box 17"/>
          <p:cNvSpPr/>
          <p:nvPr/>
        </p:nvSpPr>
        <p:spPr>
          <a:xfrm>
            <a:off x="152280" y="3276720"/>
            <a:ext cx="40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58" name="Object 18"/>
          <p:cNvGraphicFramePr/>
          <p:nvPr/>
        </p:nvGraphicFramePr>
        <p:xfrm>
          <a:off x="0" y="4510080"/>
          <a:ext cx="5181480" cy="234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10080"/>
                    <a:ext cx="518148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204480" y="774720"/>
            <a:ext cx="86770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4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电力系统综合实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031" descr="Conference"/>
          <p:cNvPicPr/>
          <p:nvPr/>
        </p:nvPicPr>
        <p:blipFill>
          <a:blip r:embed="rId1"/>
          <a:stretch/>
        </p:blipFill>
        <p:spPr>
          <a:xfrm>
            <a:off x="5759280" y="4322880"/>
            <a:ext cx="3384720" cy="25351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32"/>
          <p:cNvSpPr/>
          <p:nvPr/>
        </p:nvSpPr>
        <p:spPr>
          <a:xfrm>
            <a:off x="4572000" y="1557360"/>
            <a:ext cx="385272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上机前指导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FE2A2075-60C0-4505-9496-1127890C95AD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1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469D-FBFC-4B1D-969C-2DB9B1412720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611280" y="765000"/>
            <a:ext cx="792144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停机过程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0" y="16261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减少有功及无功出力至零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将发电机和系统解列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灭磁，断开励磁开关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关闭调速器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断开系统电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8CCB0D63-DBC2-430A-B4CF-2F767BEB300A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7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F02B-C1D7-4A51-82E2-409CF8F646DC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8"/>
          <p:cNvSpPr/>
          <p:nvPr/>
        </p:nvSpPr>
        <p:spPr>
          <a:xfrm>
            <a:off x="609480" y="1477800"/>
            <a:ext cx="792180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同步发电机准同期并列实验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611280" y="2276640"/>
            <a:ext cx="792144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、单机无穷大系统稳态运行方式实验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Text Box 53"/>
          <p:cNvSpPr/>
          <p:nvPr/>
        </p:nvSpPr>
        <p:spPr>
          <a:xfrm>
            <a:off x="611280" y="3068640"/>
            <a:ext cx="792144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、电力系统功率特性和运行极限实验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Text Box 54"/>
          <p:cNvSpPr/>
          <p:nvPr/>
        </p:nvSpPr>
        <p:spPr>
          <a:xfrm>
            <a:off x="611280" y="3860640"/>
            <a:ext cx="792144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、电力系统暂态稳定实验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Text Box 55"/>
          <p:cNvSpPr/>
          <p:nvPr/>
        </p:nvSpPr>
        <p:spPr>
          <a:xfrm>
            <a:off x="611280" y="4653000"/>
            <a:ext cx="792144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复杂电力系统运行方式实验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5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59B8B8C8-87DF-45B3-BD93-06E501D97C29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2303-89BF-44C2-A593-3B4442DB429A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11280" y="765000"/>
            <a:ext cx="792144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同步发电机准同期并列实验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863640" y="1917720"/>
            <a:ext cx="1033560" cy="100800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 flipV="1">
            <a:off x="1943280" y="2421000"/>
            <a:ext cx="865080" cy="144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6622920" y="2133720"/>
            <a:ext cx="1008360" cy="5205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4896000" y="2421000"/>
            <a:ext cx="173016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4285440" y="1627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QF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84" name="Group 13"/>
          <p:cNvGrpSpPr/>
          <p:nvPr/>
        </p:nvGrpSpPr>
        <p:grpSpPr>
          <a:xfrm>
            <a:off x="4320720" y="2205000"/>
            <a:ext cx="647640" cy="289080"/>
            <a:chOff x="4320720" y="2205000"/>
            <a:chExt cx="647640" cy="289080"/>
          </a:xfrm>
        </p:grpSpPr>
        <p:sp>
          <p:nvSpPr>
            <p:cNvPr id="185" name="Line 14"/>
            <p:cNvSpPr/>
            <p:nvPr/>
          </p:nvSpPr>
          <p:spPr>
            <a:xfrm flipH="1">
              <a:off x="4824000" y="2349360"/>
              <a:ext cx="144360" cy="1429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 flipV="1">
              <a:off x="4824000" y="2349360"/>
              <a:ext cx="144360" cy="1447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H="1">
              <a:off x="4320720" y="2205000"/>
              <a:ext cx="574920" cy="2160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88" name="Oval 17"/>
          <p:cNvSpPr/>
          <p:nvPr/>
        </p:nvSpPr>
        <p:spPr>
          <a:xfrm>
            <a:off x="2806560" y="2205000"/>
            <a:ext cx="432000" cy="43344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3022560" y="2205000"/>
            <a:ext cx="432000" cy="43344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 flipV="1">
            <a:off x="3456000" y="2421000"/>
            <a:ext cx="865080" cy="144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4075920" y="309816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验目的：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加深理解同步发电机准同期并列原理，掌握准同期并列条件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掌握微机准同期控制器及模拟式综合整步表的使用方法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熟悉同步发电机准同期并列过程； 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3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70B10C54-B04F-4D11-B71B-5C50E498B35B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42B0-1275-4811-BE37-5789BA27F822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11280" y="765000"/>
            <a:ext cx="792144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、单机无穷大系统稳态运行方式实验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8688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0" y="4659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验目的：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了解和掌握对称稳定情况下，输电系统的各种运行状态与运行参数的数值变化范围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了解和掌握输电系统稳态不对称运行的条件；不对称度运行参数的影响；不对称运行对发电机的影响等。 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BEB6925A-743E-4F83-AEA0-A9D535228AE9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1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06F4-0987-48C0-B88A-23BF6BFEC72D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11280" y="765000"/>
            <a:ext cx="792144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、电力系统功率特性和运行极限实验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868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9"/>
          <p:cNvSpPr/>
          <p:nvPr/>
        </p:nvSpPr>
        <p:spPr>
          <a:xfrm>
            <a:off x="0" y="4473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验目的：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初步掌握电力系统物理模拟实验的基本方法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加深理解功率极限的概念，在实验中体会各种提高功率极限措施的作用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通过对实验中各种现象的观察，结合所学的理论知识，培养理论结合实际及分析问题的能力。 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6BA4B5CA-F4AC-4E2F-860A-65CE8E17EE32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8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7B60-2D3C-44A0-A741-64E2464FC786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11280" y="765000"/>
            <a:ext cx="792144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、电力系统暂态稳定实验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8688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0"/>
          <p:cNvSpPr/>
          <p:nvPr/>
        </p:nvSpPr>
        <p:spPr>
          <a:xfrm>
            <a:off x="0" y="4655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验目的：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通过实验加深对电力系统暂态稳定内容的理解，使课堂理论教学与实践结合，提高学生的感性认识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学生通过实际操作，从实验中观察到系统失步现象和掌握正确处理的措施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B25A62D3-C507-493D-B8F8-B31A65B06DD2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5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4DBE-E081-4212-829A-484D0B4E7501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11280" y="765000"/>
            <a:ext cx="792144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复杂电力系统运行方式实验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219" name="Object 8"/>
          <p:cNvGraphicFramePr/>
          <p:nvPr/>
        </p:nvGraphicFramePr>
        <p:xfrm>
          <a:off x="324000" y="1341360"/>
          <a:ext cx="8604000" cy="513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604000" cy="51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2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A0AE1F10-9329-467A-A7C1-0A5D047B4C14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683F-9247-4AFB-A2C7-3B947D86F1EA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04400"/>
            <a:ext cx="91440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成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900000" y="2276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实验报告：任务书＋实验数据＋思考题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50920" y="1484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宋体"/>
                <a:ea typeface="宋体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成绩：考勤＋实验报告＋笔试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00000" y="3068640"/>
            <a:ext cx="72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笔试：系统理论知识＋实验操作知识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9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7898C19C-1674-4A0F-951F-694B8736F4B8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0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D341-0235-4F08-B746-43ADDBA661C6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808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9" descr="0357"/>
          <p:cNvPicPr/>
          <p:nvPr/>
        </p:nvPicPr>
        <p:blipFill>
          <a:blip r:embed="rId1"/>
          <a:stretch/>
        </p:blipFill>
        <p:spPr>
          <a:xfrm>
            <a:off x="684360" y="1484280"/>
            <a:ext cx="7416720" cy="48704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"/>
          <p:cNvSpPr/>
          <p:nvPr/>
        </p:nvSpPr>
        <p:spPr>
          <a:xfrm>
            <a:off x="1116000" y="9079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祝大家顺利完成大学阶段的最后一门课程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34" name="Picture 11" descr="0002"/>
          <p:cNvPicPr/>
          <p:nvPr/>
        </p:nvPicPr>
        <p:blipFill>
          <a:blip r:embed="rId2"/>
          <a:stretch/>
        </p:blipFill>
        <p:spPr>
          <a:xfrm>
            <a:off x="7667640" y="836640"/>
            <a:ext cx="79200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0002"/>
          <p:cNvPicPr/>
          <p:nvPr/>
        </p:nvPicPr>
        <p:blipFill>
          <a:blip r:embed="rId3"/>
          <a:stretch/>
        </p:blipFill>
        <p:spPr>
          <a:xfrm>
            <a:off x="468360" y="836640"/>
            <a:ext cx="7920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6005F42A-EA9B-404C-9584-79D2ABC201D0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F8BC-D646-4AD4-BE3C-864C110D9594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目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50920" y="836640"/>
            <a:ext cx="871380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目的：进一步认识电力系统的各种现象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增强对相关课程的理解，培养理论联系实际的能力。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6" name="Picture 12" descr="未命名"/>
          <p:cNvPicPr/>
          <p:nvPr/>
        </p:nvPicPr>
        <p:blipFill>
          <a:blip r:embed="rId1"/>
          <a:stretch/>
        </p:blipFill>
        <p:spPr>
          <a:xfrm>
            <a:off x="1187280" y="1916280"/>
            <a:ext cx="626616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F2508A34-C8F8-4A83-B17E-455B75789C92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DB4C-19D0-4A01-A7A9-446E595F50FE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要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11280" y="981000"/>
            <a:ext cx="7705800" cy="35262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求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好准备工作，复习相关理论知识；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保证出勤，认真完成实验；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爱护仪器设备；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时完成实验报告；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5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认真准备考试。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B41AAEB5-5BB7-4523-B8A2-42140BFB953F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FCC5-2BE6-4562-A120-7C8393A1B059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时间、地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11280" y="1413000"/>
            <a:ext cx="708660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周：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11280" y="2403360"/>
            <a:ext cx="708660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工程训练中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体育馆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区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394080"/>
            <a:ext cx="708660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生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级电力工程与管理专业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65AC6D3A-FAF8-4BC6-9E6F-629E6B67413A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6CD8-3F05-462D-A1FF-A654403F57D7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时间、地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00000" y="1336680"/>
            <a:ext cx="708660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各班按学号平均分为六组，设组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900000" y="2349360"/>
            <a:ext cx="708660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组准备一本指导书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00000" y="3354480"/>
            <a:ext cx="708660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人准备一本实验报告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F509C78B-FD9D-4F6C-BA36-3CD3B7DD9D51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E3AE-4D5A-43F2-ABA0-8EF115664914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重点复习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050920" y="1773360"/>
            <a:ext cx="482472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力系统稳态分析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050920" y="2638440"/>
            <a:ext cx="482472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力系统暂态分析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050920" y="3497400"/>
            <a:ext cx="482472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力系统自动化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050920" y="4365720"/>
            <a:ext cx="482472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力系统继电保护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4A801651-09F9-4AEE-8583-24A56C3B7339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8192-0500-4396-AFEC-47463C721713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6" descr="未命名"/>
          <p:cNvPicPr/>
          <p:nvPr/>
        </p:nvPicPr>
        <p:blipFill>
          <a:blip r:embed="rId1"/>
          <a:stretch/>
        </p:blipFill>
        <p:spPr>
          <a:xfrm>
            <a:off x="1258920" y="1052640"/>
            <a:ext cx="6265800" cy="4511520"/>
          </a:xfrm>
          <a:prstGeom prst="rect">
            <a:avLst/>
          </a:prstGeom>
          <a:ln w="0">
            <a:noFill/>
          </a:ln>
        </p:spPr>
      </p:pic>
      <p:sp>
        <p:nvSpPr>
          <p:cNvPr id="139" name="Oval 7"/>
          <p:cNvSpPr/>
          <p:nvPr/>
        </p:nvSpPr>
        <p:spPr>
          <a:xfrm>
            <a:off x="755640" y="2997360"/>
            <a:ext cx="2376360" cy="28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3059280" y="907920"/>
            <a:ext cx="3528720" cy="496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443640" y="3213000"/>
            <a:ext cx="1368360" cy="25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24320" y="19875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动机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发电机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7966080" y="5626440"/>
            <a:ext cx="11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穷大系统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856120" y="591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网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 flipH="1" flipV="1">
            <a:off x="1042560" y="2781000"/>
            <a:ext cx="28908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5437080" y="5661000"/>
            <a:ext cx="503280" cy="289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7669080" y="5229360"/>
            <a:ext cx="648000" cy="215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9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937DFB81-4F01-408C-BF5D-8CC7F2A6A503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0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091F-8E7A-4971-9027-78BB56906C82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3"/>
          <p:cNvSpPr/>
          <p:nvPr/>
        </p:nvSpPr>
        <p:spPr>
          <a:xfrm>
            <a:off x="1387440" y="6438960"/>
            <a:ext cx="659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 China Electric Power University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7999560" y="6513480"/>
            <a:ext cx="114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ge</a:t>
            </a:r>
            <a:fld id="{B02DB93B-A062-4C96-9A75-3572A8D1B0D9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5" name="日期占位符 5"/>
          <p:cNvSpPr/>
          <p:nvPr/>
        </p:nvSpPr>
        <p:spPr>
          <a:xfrm>
            <a:off x="0" y="6518160"/>
            <a:ext cx="1395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920E-59E6-4ECE-B046-8FA3B714CD1D}" type="datetime">
              <a:rPr b="1" lang="zh-CN" sz="18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765000"/>
            <a:ext cx="7921440" cy="581400"/>
          </a:xfrm>
          <a:prstGeom prst="rect">
            <a:avLst/>
          </a:prstGeom>
          <a:solidFill>
            <a:srgbClr val="dbd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机过程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191844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合上操作电源开关，检查实验台上各开关状态：各开关信号灯应绿灯亮、红灯熄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设置调速器为手动状态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设置励磁方式为手动状态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把实验台上“同期方式”开关置“断开”位置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合上系统电压开关和线路开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F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F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检查系统电压接近额定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0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合上原动机开关，启动发电机到额定转速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当机组转速升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.5Hz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以上时，调节励磁调节器将发电机电压建压到与系统电压相等； 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准同期并列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根据实验要求增加有功或无功出力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3:25:33Z</dcterms:created>
  <dc:creator>liyansong</dc:creator>
  <dc:description/>
  <dc:language>en-US</dc:language>
  <cp:lastModifiedBy>微软用户</cp:lastModifiedBy>
  <dcterms:modified xsi:type="dcterms:W3CDTF">2012-02-21T00:56:21Z</dcterms:modified>
  <cp:revision>284</cp:revision>
  <dc:subject/>
  <dc:title>发电厂电气系统基础知识</dc:title>
</cp:coreProperties>
</file>