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75A-5122-418E-984B-0D76227F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C6D-526D-4B60-92A0-DBAF4638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30F-E7AF-42C9-8264-508E8BD1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449-37C3-44B5-A32A-CEB53C53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187-C3FC-485B-92CE-10BADBB1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1B8-4310-450F-B136-AAFBD808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02F4-C015-4112-B20E-C7B68B1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F2A-2082-463B-8AA0-E63E52DB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A3DB-9846-4463-8171-90C6746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09FB-8710-4889-BF94-A126736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0E21-24B8-48F1-832E-5D75F26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49E-D078-458F-9D86-600EEAF1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37A3-4EC4-48CA-B39B-DCBF9146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3F72-1778-444B-909C-3F14DC1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CF09-5309-4D50-938F-B704CEBC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485F-C2A1-4A49-9F39-17E46E15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F27-FB40-437C-920F-2D48444F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A37-E4F8-4D67-8463-DBECA5E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588-FC9E-42FC-BE32-299493AF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2FE-90E8-4F6C-94DB-3417BDBC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A7A-67C4-4CF5-864C-0695643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E3A-00D2-4412-92A7-52AC672C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EA1-A831-4F45-8784-E7C5289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E6D-1A06-4F20-AE63-747EE68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45E-661F-4878-B0D6-CE6D3D27EA3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AF5D-E509-4E45-B584-03EDDFC8FF0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1243;&#24207;&#27169;&#26495;/NEquation.h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8526;&#27969;&#19978;&#26426;&#35838;&#31243;&#35774;&#35745;&#20219;&#21153;&#20070;.doc" TargetMode="External"/><Relationship Id="rId3" Type="http://schemas.openxmlformats.org/officeDocument/2006/relationships/hyperlink" Target="file:///&#31243;&#24207;&#27169;&#26495;/data/data.txt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1243;&#24207;&#27169;&#26495;/config.h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电力系统潮流上机计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计算雅可比矩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GetJaccobi(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将教材上的公式转为计算机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要判断节点类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要判断节点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j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否相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解修正方程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修正方程式就是线性方程组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X=B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已知，如何求解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用矩阵求逆，用高斯消去法，写在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文件中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NEquation.h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读不懂这个程序没关系，会使用就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如何使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NEquation.h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test(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ob1.SetSize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矩阵的维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ob1.Dat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是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矩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ob1.Value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是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矩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ob1.Run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就是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矩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N-L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法潮流计算过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、输入原始数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、形成节点导纳矩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、设节点电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四、计算功率不平衡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五、计算雅可比矩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六、解修正方程式，得到电压新偏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七、计算电压新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进入下一次迭代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如何实现原始数据的输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潮流计算的原始数据很多，不要通过屏幕输入，也不要直接赋值到变量里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程序设计的原则：数据和程序（对数据的处理）分开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是一个九节点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算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将任务书里提供的原始数据整理成计算机计算的格式，保存在一个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文件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ata.txt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6337440" cy="46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33744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整理原始数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节点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节点号，电压的实部（或大小），电压的虚部（或相角），节点的发电机功率，节点的负荷功率，节点类型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平衡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V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Q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支路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支路号，支路始端节点号，支路末端节点号，支路的电阻，支路的电抗，支路的电纳，支路类型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线路，非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变压器支路，并表示变压器的变比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程序中如何使用原始数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onfig.h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创建结构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打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ata.txt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件，注意文件路径不要写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指针指向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ata.txt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件的开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取出该数据，保存在结构体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关闭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ata.txt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形成节点导纳矩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利用支路数据：节点之间的连接关系，支路的阻抗和导纳，支路类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计算的过程中使用数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gY_G[Bus_Num][Bus_Num]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gY_B[Bus_Num][Bus_Num]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计算结束，将导纳矩阵保存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ymatrix.tx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果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P-Q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分解法，还要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矩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设电压初值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ata.txt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件中有电压初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注意是极坐标还是直角坐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果是极坐标，注意角度和弧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求功率不平衡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GetUnbalance()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将教材上的公式转为计算机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注意循环语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计算机中乘法是有符号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判断节点类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PQ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节点求有功、无功不平衡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PV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节点求有功、电压不平衡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思考：为什么不求平衡节点的不平衡量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21:36:36Z</dcterms:created>
  <dc:creator>微软用户</dc:creator>
  <dc:description/>
  <dc:language>en-US</dc:language>
  <cp:lastModifiedBy>微软用户</cp:lastModifiedBy>
  <dcterms:modified xsi:type="dcterms:W3CDTF">2010-06-09T22:44:49Z</dcterms:modified>
  <cp:revision>16</cp:revision>
  <dc:subject/>
  <dc:title>电力系统潮流上机计算</dc:title>
</cp:coreProperties>
</file>